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2134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417-ABAB-47C8-8738-9B490BC3201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32F3-C1F7-4B11-8341-03C23E2E7F4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C93-E673-44D4-84FE-27827CB7DCE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A7A-4018-43C3-A1C6-B5AD1F7D790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7D0-579A-46B5-986D-4CCF30A60B9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C99-C106-42CE-AA4A-41AF483B850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72C-990D-4738-86EF-C25054952629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4B8-EF3E-4406-86D9-B781538EFF1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74D0-E262-4831-AD7F-0CAC1077677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C58-4010-4DA6-83D0-EB218C7E3F9B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F517-B69B-4730-A264-6D31147FBBD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DFB1-0D37-4E9D-A548-43382673B8D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032-89FA-4A75-A904-9201EC7DAD1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A43-A9E9-4442-9F09-2F01DA574AC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FB7-FBB7-42CD-88DE-7636333B259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B47-A71E-482A-BC0E-891F6FB29DA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FAAE-154A-4F09-9B65-95EF096DD21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B781-DAC9-4004-8CCD-CA763FAC8F09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DC4-3C9E-4E35-939C-6F0AC1C3849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E19-74F7-4119-A413-68D22D76D77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092-9656-4429-9165-00162FC83CB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415-1425-43F8-A90F-6089873BBDB9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1BD-29C1-4F8B-8AD2-EE27056A0F6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5BB-007D-460B-AAF1-246CF248448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FD28-8777-4160-AC67-C770EFEB2BA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E1C-BABF-4EC0-98E2-EB771952A4D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9069-34A6-4247-B08D-B220B0B74BB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8F03-FE48-444E-BA31-C298CC42B42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49F4-6D17-499F-953A-AAF7DE19C5D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039-0C8D-4DE7-AE82-C0A43B6F871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C00-4EBA-4C99-97A1-AEE4197693A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6F2-6CB2-4647-BB5D-580CE039C73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61E9-19F0-466B-9A02-4FCF3FDCCB8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410-83CE-4ACD-B937-F8E6E644679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8F6-8F56-456C-ADE0-9100A839EA1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44B-5F19-4D98-915C-580685BD75A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FDD5-8F69-456B-B756-513E5530BCBB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B8A2-00DB-4D50-8F4A-156A8CF0EEC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F05-E224-45B5-B76E-A78FA441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B13-F3F2-4175-AEE7-432DF4EF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817-D54C-422D-AE10-31B1740F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E1D-7038-41FA-88B5-BE8EF21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489-163D-4B10-92F6-6BBC99A8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24C-4178-4FCC-95D2-66CC32AB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B99-C788-44CA-AA7E-0013F8F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832-4E2C-4F76-85EC-92B791BE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CEA-8FD7-4794-9905-58665A8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134-D50C-4BB6-8FAA-3E2BC9D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6F1-17A4-4196-BC5C-2C405AF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119-9B9F-47FC-8BE5-91B14AA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56A-4AD5-4C64-AF40-CD1E2B47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a32134"/>
              </a:solidFill>
              <a:latin typeface="Comic Sans MS"/>
            </a:endParaRPr>
          </a:p>
        </p:txBody>
      </p:sp>
      <p:pic>
        <p:nvPicPr>
          <p:cNvPr id="5" name="Picture 7" descr="listic"/>
          <p:cNvPicPr/>
          <p:nvPr/>
        </p:nvPicPr>
        <p:blipFill>
          <a:blip r:embed="rId2"/>
          <a:stretch/>
        </p:blipFill>
        <p:spPr>
          <a:xfrm>
            <a:off x="-6480" y="-14400"/>
            <a:ext cx="1803600" cy="1676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a32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356840"/>
            <a:ext cx="87152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СНОВНЕ СТРУКОВНЕ СТУДИЈЕ</a:t>
            </a:r>
            <a:br>
              <a:rPr sz="2000"/>
            </a:b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ШТИНА КУМУНИК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пецифичности комуникације са оболелима од болести са неповољном прогнозом </a:t>
            </a:r>
            <a:br>
              <a:rPr sz="2800"/>
            </a:br>
            <a:r>
              <a:rPr b="1" lang="ru-RU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ставна јединица 1</a:t>
            </a:r>
            <a:r>
              <a:rPr b="1" lang="en-US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ф. др Марина Петрови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ко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аопштит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у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</a:t>
            </a:r>
            <a:br>
              <a:rPr sz="2800"/>
            </a:b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ралн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ск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4214880" cy="50734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ав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ормациј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чијој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ија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(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м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љ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лано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позна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шт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општавањ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јбољ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к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ива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м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ход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ира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мп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нав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и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доб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гућно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знемирав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центриш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говорни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ај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вентуал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итничк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јатељ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”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6200" y="1356840"/>
            <a:ext cx="4214880" cy="5054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ц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ичн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памт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т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р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знемирен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ош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сутан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л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иј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атк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зулта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н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ж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л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ича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о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Желе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ама да поразговарам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 реши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бле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тролише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мптом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“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аж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азговар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м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виј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мре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BCDE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дел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57240"/>
            <a:ext cx="9144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- Advance preparation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напред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B - Build a therapeutic relationship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остављ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апеутско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 - Communicate well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шће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муникаци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D - Deal with patient's and family reactions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ма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- Encourage and validate emotions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цај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третм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DVANCE PREPARATION</a:t>
            </a:r>
            <a:br>
              <a:rPr sz="36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ипрем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напре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ве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приват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љ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ај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конструишите релевант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уч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 информациј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ално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исл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 то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збегне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ч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тља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BUILD A THERAPEUTIC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RELATIONSHIP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спостављање терапеутског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д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71432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уст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л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сниц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о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кладн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ре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у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едеће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тан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COMMUNICATE WELL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ришћењ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р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шти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571760"/>
            <a:ext cx="9001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цен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х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ле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минолог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жљи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зино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иши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з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акнит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пиш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умевањ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а 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от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иш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есу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л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еви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дисциплинар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сурс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319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DEAL WITH PATIENT’S AND</a:t>
            </a:r>
            <a:br>
              <a:rPr sz="28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FAMILY REACTIONS </a:t>
            </a:r>
            <a:br>
              <a:rPr sz="32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 реакциј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ацијента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одиц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a32134"/>
                </a:solidFill>
                <a:latin typeface="Arial"/>
              </a:rPr>
              <a:t>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928520"/>
            <a:ext cx="82155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мат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и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е реак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о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 свако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сећај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глашавајућ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ртнерски одно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о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ентарис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ритиков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NCOURAGE AND VALIDATE</a:t>
            </a:r>
            <a:br>
              <a:rPr sz="2800"/>
            </a:br>
            <a:r>
              <a:rPr b="1" lang="sv-SE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MOTIONS </a:t>
            </a:r>
            <a:br>
              <a:rPr sz="2800"/>
            </a:b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стицај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моције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857240"/>
            <a:ext cx="8501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ј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ч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ра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 осећа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... 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ин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ш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а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пријемчиви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ених запосле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об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920" y="-429120"/>
            <a:ext cx="7858080" cy="31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1928880"/>
            <a:ext cx="878688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а, као и отвореност и искреност у вези са стањем пацијента, су кључ делотворног збрињавања умирућих 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творена комуникација не убија над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докази да већина људи жели да зна истину и да се боље носи са ситуацијом ако јој се подршка пружа путем искреног разговора о ситуацији у к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 се обавља саосећајно, отворена комуникација пацијенту даје наду и храброст да се суочи и носи са ситуацијом у кој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дна од кључних комуникацијских вештина у палијативном збрињавању је препознавање знакова/сигнала које даје пацијент и реаговање на њих, односно омогућавање пацијенту да разговара о питањима која га муч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-357480"/>
            <a:ext cx="8001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СКРЕНА ОТВОРЕ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429760" cy="3500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принос изградњи поверења и емпат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ањује неизвес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да се носи са си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ржава реалне над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ља прилику да се, кроз препознавање сигнала које пацијент даје, разговара о ономе што брине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и породици да преузму контролу и да се припреме за смр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74396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Шта је лоша вес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ч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ишт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ан ут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будућно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 лоших вести о искуству себе</a:t>
            </a: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I left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my house on October 2, 1996, as on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son and came home another”. (Lanc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rmstron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ОТВОР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560" y="1857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сим вештине комуникације, комуникацију подстиче 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 времена на располагањ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тупност здравсвених радни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в здравствених радника о томе да је комуникација  важ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рофесионалац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ће се пацијент узнемири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ће донети више штете него кори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 ништа не може урадити у погледу емоционалних пит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се разговором о бригама/стрепњама пацијента његова очекивања неоправдано  повећава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одговарајуће вештин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к није сигуран како да се носи са тешком ситуацијо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неспособност процене сазнања пацијент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достатак подршке нпр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пацијенту уколико се проблеми идентифику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ти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-786240"/>
            <a:ext cx="8572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ацијена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признања да нису у стању да се носе са сит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тога да ће се њихови најгори страхови обистин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здравствени радници презаузе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њихове бриге неваж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тешкоћ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скажу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нађу праве реч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сигнали које дају здравственим радницима се игнориш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429400" cy="5216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1 – суочавање са болешћ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верица или негирање ( ја немам рак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грешна дијагноза, грешка у преглед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 " то није мој налаз", "налаз је замењен")                            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КОЛИКО ДАН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ајање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ептицизам ( " ја сам готов", " сви с раком умиру"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лагање са новијим методама и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ствима- техникама лече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01040" cy="5000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2 – Дисфор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ксиознос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пре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орек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дражљивост                                  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 - 2 НЕДЕЉ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аниц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лабљена концентрац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ене дневне 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50104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3 – Адаптац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агођавање новим информацијама о лечењ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хабилитацији, будућ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очавање са стварним информација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ење разлога за оптимизам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ЕСЕЦ ДАНА и виш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налаза нових циљева у животу, послу,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 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35812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е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 је несвесни ментални процес који служи ко одбрана против анксиозности који изазива спољна  прет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 је нормална и здрава реакција која постаје патолошка тек кад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 искриви"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 потпуно одбаци ствар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ретање пажње је нормално и може помоћ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у се морамо супротставити  ако изазива штет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е порицања обично следе бес, кривица, депрес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РШКА ПАЦИЈЕНТУ КОЈИ НЕ ПРИХВАТА ИСТИН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и дозволите му да изрази мисли и осећања: прихватите, али не подстичите и не одобравајте пориц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чите наду, али избегавајте давање лажне утех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да бисте препознали конкретне бриге, пажљиво га подстакните да Вам каже више о томе што га мучи: направите атмосферу сигурности у којој болна стварност може бити свесно прихваћн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 решења за одређене бриге, нпр.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ако ова болест изазива јак бол, има много начина на које се може помоћ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 је порицање проблем, покушајте да се благо супроставите нпр.,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 ли икада размишљате о томе да се то можда неће догодит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ите " пукотину" у  порицању, нпр.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гледа као да се питате да ли нешто друго изазив бол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С/ ЉУТ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35812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с је уобичајена реакција на губитак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основи беса су осећања беспомоћности и очајничке потраге да се свету да ново значење пошто је претходно измакло контрол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да не покушавате да објашњењем умирите бес када комуницирате са неким ко изражава бе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лушајте и препознајте и прихватите такво испољ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бес пажљивим слушање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1356840"/>
            <a:ext cx="89298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жин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н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вис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лике измеђ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њ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ућно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здравственог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а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ој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итуацији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дговор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живљавање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тиче психосоциалн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екс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Дијагно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н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тев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PCI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т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дељ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свадб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br>
              <a:rPr sz="2000"/>
            </a:b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Тремо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ирурга</a:t>
            </a:r>
            <a:endParaRPr b="0" lang="en-US" sz="20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358120" cy="47862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јно договарање родбине пацијента је честа појава, али се може срести и код професионалац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ци могу да замоле здравственог радника да прикрије информације од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запамтити да је оваква врста дослуха често чин љубави или потребе да другог заштитите од бол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и који инсистирају на дослуху често твдре да пацијента познају боље од здравтвених радника и да знају " шта пацијент може да поднесе"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дбина често сматра да ће се саопштавањем истине пацијенту одузети над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прикривање ис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породици пацијента да мора да се изађе у сусрет пацијентових потреба за објашњењем, којим ће се побољшати његово разумевање сопствене ситуац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во се договорите да приђете пацијенту са циљем да проверите колико он разуме ситуациј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358120" cy="457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ећаје да пацијенту нећете дати ни једну информацијију коју он не затраж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рођацима да када се прихвати реална ситуација нада може да има више смисла и да се заснива на краткорочним достижним информација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 онима који желе да прикрију истину разговарајте о емоционалној цени таквог поступка. Нагласите колико је та емоционална цена висока и испитајте са рођацима колико је вероватно да и сам пацијент прећуткује да зна истину и да је свестан истине, односо да сумња и да је спреман да разговара о важним питањ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да искрени разговор омогућава пружање утехе пацијенту у вези са многим питањима која га брину и да му помаже да буде смиренији и планира, односно да  прилагоди своје наде и циљев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рганизујте поновни разговор и отворите могућност да се сусретнете заједно са пацијентом и рођацима ако су и једни и други свесни реал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има лека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 ј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 времена ми је преостало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 ће се десити након овога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последњих часова живота) 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би нека друга терапија помогл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нога од ових питања су реторичка и на њих нема јасних одговор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пак, она дају прилику да се истраже осећања и помажу да се " избаце" највећи страхов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главном се ради о настојању да се ситуацији да неки смиса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СТУПАЊЕ У СЛУЧАЈУ ТЕШКИХ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ите зашто је пацијент поставио дато пит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да сте заинтересовани за његове иде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врдите оно што пацијент говори или елаборирајте нпр 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тно сте у праву ..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спремни да признате да нешто незна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емпат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бог чега комуникација </a:t>
            </a:r>
            <a:r>
              <a:rPr b="1" i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" пуца"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понекад не могу да нађу речи којима би изразили своја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не желе да буду терет и боје се да ће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пући"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осно да ће им живци попуст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се стиде да признају да имају проблем са савладавањем сопствене ситуације, или им професионалци делују превише заузет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евени радници се боје да ће код пацијента изазвати душевни бол, штету или бриг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ци се не осећају на свом терену и сматрају да емоционална подршка није део њихове професионалне улог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и одговор пацијента нас лично погађ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нашање које спречава комуникациј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рано давање савета и утехе, пре него што се уопште идентификује главни пробле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подаштавање душевног бола као нечег нормалног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окусирање на физичке аспек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мене тем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утно " развесељавање"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КЉУЧАК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а и отворена комуникација је кључан елемент палијативног збрињав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обрасци које можемо користити када се нађемо у тешким ситуација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е раднике не треба да буде страх да признају да нешто не знају, или да им је потребна помоћ у одређеној ситуациј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 делотворне комуникације је да се од пацијента и чланова његове породице" извуче" шта осећају, о чему размишљају, шта их брине и да им  се пруже одговарајуће повратне информације, подршка и утех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5298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да саопштават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2714760"/>
            <a:ext cx="841536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зициј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туп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људ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асноћа 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лов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б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лик комуник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ратрансфера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супро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у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 д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вредимо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убитк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трол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спе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ренинг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уникацијски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?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но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утоматск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ња д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ост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илозофско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ит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 с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нта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ком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удиј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екар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ругачије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спектив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ем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лимично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у в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едстав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њениц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збилн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ош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ум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о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ујући неугрожавајућ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г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89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Как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арго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н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зик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ом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мере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творе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говор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иси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920" y="1571400"/>
            <a:ext cx="4038480" cy="42145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Зашт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аоп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радим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и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успех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зрокујемо 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а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окаже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б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од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9840" y="6064200"/>
            <a:ext cx="1406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a32134"/>
                </a:solidFill>
                <a:latin typeface="Comic Sans MS"/>
              </a:rPr>
              <a:t>Prof. E. Klain</a:t>
            </a:r>
            <a:endParaRPr b="1" i="1" lang="en-US" sz="16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560" y="1285920"/>
            <a:ext cx="900108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сихолош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физич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ент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гзистенциј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аспект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br>
              <a:rPr sz="2400"/>
            </a:b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роватн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ивот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-214560"/>
            <a:ext cx="74581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5480" y="2214360"/>
            <a:ext cx="8001000" cy="3429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пштавање лоших 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7:18:45Z</dcterms:created>
  <dc:creator>Nebojša</dc:creator>
  <dc:description/>
  <dc:language>en-US</dc:language>
  <cp:lastModifiedBy>Milanče Sin</cp:lastModifiedBy>
  <dcterms:modified xsi:type="dcterms:W3CDTF">2023-02-04T20:04:18Z</dcterms:modified>
  <cp:revision>119</cp:revision>
  <dc:subject/>
  <dc:title>Slide 1</dc:title>
</cp:coreProperties>
</file>